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メイリオ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7B75-D18B-4D64-9C60-9329DEDC0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ブラッシュアップ後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オリジナルテンプレート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,5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円）を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368D-6624-4732-84F5-0D525B548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ブラッシュアップ後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標準図解パター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25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円）を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1A97-96A1-4CAB-B3EC-E129B5540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ブラッシュアップ後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特殊図解パターン（標準図解パター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25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α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を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特殊図解パターンの制作費は、ご依頼内容によって異なりますため、別途ご相談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38BB-773E-4216-A1FA-01A01B1DB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ヒラギノ角ゴ Pro W6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1DE01-E527-4049-8C08-C754A37AF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37960" y="544680"/>
            <a:ext cx="864576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37960" y="3666600"/>
            <a:ext cx="864576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BB92D-6F4D-4BF5-AA37-3EA0289DE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7960" y="544680"/>
            <a:ext cx="421884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544680"/>
            <a:ext cx="421884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37960" y="3666600"/>
            <a:ext cx="421884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3666600"/>
            <a:ext cx="421884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CD3B-C4EC-48B2-BD05-13A1EB594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7960" y="544680"/>
            <a:ext cx="278352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61160" y="544680"/>
            <a:ext cx="278352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84000" y="544680"/>
            <a:ext cx="278352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37960" y="3666600"/>
            <a:ext cx="278352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61160" y="3666600"/>
            <a:ext cx="278352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84000" y="3666600"/>
            <a:ext cx="278352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91D47-7116-4EA9-B7BD-B45358218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37960" y="544680"/>
            <a:ext cx="8645760" cy="59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7960" y="544680"/>
            <a:ext cx="864576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7960" y="544680"/>
            <a:ext cx="42188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120" y="544680"/>
            <a:ext cx="42188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71040" y="-360"/>
            <a:ext cx="68310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7960" y="544680"/>
            <a:ext cx="421884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120" y="544680"/>
            <a:ext cx="42188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37960" y="3666600"/>
            <a:ext cx="421884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37960" y="544680"/>
            <a:ext cx="8645760" cy="59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B1BB4-C273-40CA-B8B0-8F7D4A812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7960" y="544680"/>
            <a:ext cx="42188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544680"/>
            <a:ext cx="421884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120" y="3666600"/>
            <a:ext cx="421884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37960" y="544680"/>
            <a:ext cx="421884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544680"/>
            <a:ext cx="421884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37960" y="3666600"/>
            <a:ext cx="864576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7960" y="544680"/>
            <a:ext cx="864576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7960" y="3666600"/>
            <a:ext cx="864576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7960" y="544680"/>
            <a:ext cx="421884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544680"/>
            <a:ext cx="421884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37960" y="3666600"/>
            <a:ext cx="421884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120" y="3666600"/>
            <a:ext cx="421884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37960" y="544680"/>
            <a:ext cx="278352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160" y="544680"/>
            <a:ext cx="278352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84000" y="544680"/>
            <a:ext cx="278352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37960" y="3666600"/>
            <a:ext cx="278352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160" y="3666600"/>
            <a:ext cx="278352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84000" y="3666600"/>
            <a:ext cx="278352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7960" y="544680"/>
            <a:ext cx="864576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EBE3E-1327-4889-9CBA-37A47E428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7960" y="544680"/>
            <a:ext cx="42188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544680"/>
            <a:ext cx="42188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98E5-559C-4F7B-91B3-CDFFF8558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6C686-57F7-42AC-80CD-CD187D3E5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71040" y="-360"/>
            <a:ext cx="68310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AFA37-CCF2-4650-BEE1-345FA2E60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7960" y="544680"/>
            <a:ext cx="421884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544680"/>
            <a:ext cx="42188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37960" y="3666600"/>
            <a:ext cx="421884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13435-286C-48C9-84CC-D656DD643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7960" y="544680"/>
            <a:ext cx="42188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544680"/>
            <a:ext cx="421884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3666600"/>
            <a:ext cx="421884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A9588-E8E8-446A-AE1B-77857F57C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7960" y="544680"/>
            <a:ext cx="421884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544680"/>
            <a:ext cx="421884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7960" y="3666600"/>
            <a:ext cx="8645760" cy="28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C8C45-C737-4DFF-A254-11B03083C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90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19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pic>
        <p:nvPicPr>
          <p:cNvPr id="1" name="Picture 19" descr=""/>
          <p:cNvPicPr/>
          <p:nvPr/>
        </p:nvPicPr>
        <p:blipFill>
          <a:blip r:embed="rId2"/>
          <a:stretch/>
        </p:blipFill>
        <p:spPr>
          <a:xfrm>
            <a:off x="139680" y="426960"/>
            <a:ext cx="8864640" cy="623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37960" y="544680"/>
            <a:ext cx="864576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433080" y="6688080"/>
            <a:ext cx="3639960" cy="2016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© 2011 LOGOSWARE CORPORATION. All Rights Reserv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416800" y="6642000"/>
            <a:ext cx="48096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5F7B-44B9-4D07-8F99-99F12850D20C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7561440" y="6678720"/>
            <a:ext cx="89208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Text Box 14"/>
          <p:cNvSpPr/>
          <p:nvPr/>
        </p:nvSpPr>
        <p:spPr>
          <a:xfrm>
            <a:off x="8769240" y="6678720"/>
            <a:ext cx="26352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/14</a:t>
            </a:r>
            <a:endParaRPr b="0" lang="en-US" sz="10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pic>
        <p:nvPicPr>
          <p:cNvPr id="7" name="Picture 17" descr="logo_logosware_w_bg_orange"/>
          <p:cNvPicPr/>
          <p:nvPr/>
        </p:nvPicPr>
        <p:blipFill>
          <a:blip r:embed="rId3"/>
          <a:stretch/>
        </p:blipFill>
        <p:spPr>
          <a:xfrm>
            <a:off x="135000" y="6657840"/>
            <a:ext cx="279360" cy="2001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8" descr=""/>
          <p:cNvPicPr/>
          <p:nvPr/>
        </p:nvPicPr>
        <p:blipFill>
          <a:blip r:embed="rId4"/>
          <a:stretch/>
        </p:blipFill>
        <p:spPr>
          <a:xfrm>
            <a:off x="343080" y="79200"/>
            <a:ext cx="326880" cy="2905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5" descr="header_circle"/>
          <p:cNvPicPr/>
          <p:nvPr/>
        </p:nvPicPr>
        <p:blipFill>
          <a:blip r:embed="rId5"/>
          <a:srcRect l="0" t="57925" r="29629" b="0"/>
          <a:stretch/>
        </p:blipFill>
        <p:spPr>
          <a:xfrm>
            <a:off x="7334280" y="0"/>
            <a:ext cx="1809720" cy="10540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メイリオ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pic>
        <p:nvPicPr>
          <p:cNvPr id="11" name="Picture 28" descr="header"/>
          <p:cNvPicPr/>
          <p:nvPr/>
        </p:nvPicPr>
        <p:blipFill>
          <a:blip r:embed="rId6"/>
          <a:stretch/>
        </p:blipFill>
        <p:spPr>
          <a:xfrm>
            <a:off x="7572240" y="182520"/>
            <a:ext cx="143856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"/>
          <p:cNvSpPr/>
          <p:nvPr/>
        </p:nvSpPr>
        <p:spPr>
          <a:xfrm>
            <a:off x="6019920" y="76320"/>
            <a:ext cx="8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ヒラギノ角ゴ Pro W6"/>
              </a:rPr>
              <a:t>powerd by</a:t>
            </a:r>
            <a:endParaRPr b="0" lang="en-US" sz="1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pic>
        <p:nvPicPr>
          <p:cNvPr id="49" name="図 14" descr="logo_LOGOSWARE1.png"/>
          <p:cNvPicPr/>
          <p:nvPr/>
        </p:nvPicPr>
        <p:blipFill>
          <a:blip r:embed="rId3"/>
          <a:stretch/>
        </p:blipFill>
        <p:spPr>
          <a:xfrm>
            <a:off x="3605040" y="6284880"/>
            <a:ext cx="1933920" cy="287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237960" y="544680"/>
            <a:ext cx="864576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メイリオ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2800" y="3159000"/>
            <a:ext cx="573876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TORM 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制作サービスのご案内</a:t>
            </a:r>
            <a:endParaRPr b="0" lang="en-US" sz="2800" spc="-1" strike="noStrike">
              <a:solidFill>
                <a:srgbClr val="ffffff"/>
              </a:solidFill>
              <a:latin typeface="メイリオ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フッター プレースホルダー 1"/>
          <p:cNvSpPr/>
          <p:nvPr/>
        </p:nvSpPr>
        <p:spPr>
          <a:xfrm>
            <a:off x="433440" y="6688080"/>
            <a:ext cx="36399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© 2011 LOGOSWARE CORPORATION. All Rights Reserved </a:t>
            </a:r>
            <a:endParaRPr b="0" lang="en-US" sz="10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7" name="スライド番号プレースホルダー 2"/>
          <p:cNvSpPr/>
          <p:nvPr/>
        </p:nvSpPr>
        <p:spPr>
          <a:xfrm>
            <a:off x="8416800" y="6642000"/>
            <a:ext cx="48096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AA78-5E90-42E8-A8AD-CAD4B7AAA20F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8" name="正方形/長方形 5"/>
          <p:cNvSpPr/>
          <p:nvPr/>
        </p:nvSpPr>
        <p:spPr>
          <a:xfrm>
            <a:off x="1390680" y="733320"/>
            <a:ext cx="7539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108000" bIns="72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成ツール開発ベンダーがご提供する制作サービス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1440" y="-32040"/>
            <a:ext cx="8512200" cy="476280"/>
          </a:xfrm>
          <a:prstGeom prst="rect">
            <a:avLst/>
          </a:prstGeom>
          <a:noFill/>
          <a:ln w="0">
            <a:noFill/>
          </a:ln>
        </p:spPr>
        <p:txBody>
          <a:bodyPr tIns="144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メイリオ"/>
              </a:rPr>
              <a:t>STORM </a:t>
            </a:r>
            <a:r>
              <a:rPr b="0" lang="ja-JP" sz="2000" spc="-1" strike="noStrike">
                <a:solidFill>
                  <a:srgbClr val="ffffff"/>
                </a:solidFill>
                <a:latin typeface="メイリオ"/>
              </a:rPr>
              <a:t>制作サービスの強み</a:t>
            </a: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843120" y="851040"/>
            <a:ext cx="529920" cy="529920"/>
            <a:chOff x="843120" y="851040"/>
            <a:chExt cx="529920" cy="529920"/>
          </a:xfrm>
        </p:grpSpPr>
        <p:pic>
          <p:nvPicPr>
            <p:cNvPr id="101" name="Picture 11" descr=""/>
            <p:cNvPicPr/>
            <p:nvPr/>
          </p:nvPicPr>
          <p:blipFill>
            <a:blip r:embed="rId1"/>
            <a:stretch/>
          </p:blipFill>
          <p:spPr>
            <a:xfrm>
              <a:off x="843120" y="851040"/>
              <a:ext cx="529920" cy="52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Group 12"/>
            <p:cNvGrpSpPr/>
            <p:nvPr/>
          </p:nvGrpSpPr>
          <p:grpSpPr>
            <a:xfrm>
              <a:off x="1020600" y="939600"/>
              <a:ext cx="170640" cy="300960"/>
              <a:chOff x="1020600" y="939600"/>
              <a:chExt cx="170640" cy="300960"/>
            </a:xfrm>
          </p:grpSpPr>
          <p:pic>
            <p:nvPicPr>
              <p:cNvPr id="103" name="Picture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0600" y="939600"/>
                <a:ext cx="60120" cy="6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077480" y="999360"/>
                <a:ext cx="60120" cy="6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1120" y="1056600"/>
                <a:ext cx="60120" cy="6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7480" y="1113840"/>
                <a:ext cx="60120" cy="6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20600" y="1174320"/>
                <a:ext cx="60120" cy="66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" name="AutoShape 18"/>
          <p:cNvSpPr/>
          <p:nvPr/>
        </p:nvSpPr>
        <p:spPr>
          <a:xfrm>
            <a:off x="523800" y="1762200"/>
            <a:ext cx="8096400" cy="1200240"/>
          </a:xfrm>
          <a:prstGeom prst="roundRect">
            <a:avLst>
              <a:gd name="adj" fmla="val 7144"/>
            </a:avLst>
          </a:prstGeom>
          <a:gradFill rotWithShape="0">
            <a:gsLst>
              <a:gs pos="0">
                <a:srgbClr val="f8f8f8"/>
              </a:gs>
              <a:gs pos="100000">
                <a:srgbClr val="dddddd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e6b9b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grpSp>
        <p:nvGrpSpPr>
          <p:cNvPr id="109" name="グループ化 37"/>
          <p:cNvGrpSpPr/>
          <p:nvPr/>
        </p:nvGrpSpPr>
        <p:grpSpPr>
          <a:xfrm>
            <a:off x="723960" y="1771560"/>
            <a:ext cx="4495680" cy="1228680"/>
            <a:chOff x="723960" y="1771560"/>
            <a:chExt cx="4495680" cy="1228680"/>
          </a:xfrm>
        </p:grpSpPr>
        <p:sp>
          <p:nvSpPr>
            <p:cNvPr id="110" name="AutoShape 21"/>
            <p:cNvSpPr/>
            <p:nvPr/>
          </p:nvSpPr>
          <p:spPr>
            <a:xfrm>
              <a:off x="990360" y="1771560"/>
              <a:ext cx="4229280" cy="1228680"/>
            </a:xfrm>
            <a:custGeom>
              <a:avLst/>
              <a:gdLst>
                <a:gd name="textAreaLeft" fmla="*/ 0 w 4229280"/>
                <a:gd name="textAreaRight" fmla="*/ 4229280 w 4229280"/>
                <a:gd name="textAreaTop" fmla="*/ 0 h 1228680"/>
                <a:gd name="textAreaBottom" fmla="*/ 1229040 h 12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02" y="0"/>
                  </a:lnTo>
                  <a:lnTo>
                    <a:pt x="21600" y="10800"/>
                  </a:lnTo>
                  <a:lnTo>
                    <a:pt x="193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19043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  <p:sp>
          <p:nvSpPr>
            <p:cNvPr id="111" name="Rectangle 22"/>
            <p:cNvSpPr/>
            <p:nvPr/>
          </p:nvSpPr>
          <p:spPr>
            <a:xfrm>
              <a:off x="723960" y="1771560"/>
              <a:ext cx="152280" cy="1227240"/>
            </a:xfrm>
            <a:prstGeom prst="rect">
              <a:avLst/>
            </a:prstGeom>
            <a:solidFill>
              <a:srgbClr val="f19043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  <p:sp>
          <p:nvSpPr>
            <p:cNvPr id="112" name="Text Box 28"/>
            <p:cNvSpPr/>
            <p:nvPr/>
          </p:nvSpPr>
          <p:spPr>
            <a:xfrm>
              <a:off x="1276200" y="2019240"/>
              <a:ext cx="35053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開発ベンダーだからこそ出来る</a:t>
              </a:r>
              <a:br>
                <a:rPr sz="2000"/>
              </a:br>
              <a:r>
                <a:rPr b="0" lang="ja-JP" sz="2400" spc="-1" strike="noStrike">
                  <a:solidFill>
                    <a:srgbClr val="003399"/>
                  </a:solidFill>
                  <a:latin typeface="HGPｺﾞｼｯｸE"/>
                  <a:ea typeface="HGPｺﾞｼｯｸE"/>
                </a:rPr>
                <a:t>柔軟なカスタマイズ</a:t>
              </a:r>
              <a:endParaRPr b="0" lang="en-US" sz="24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</p:grpSp>
      <p:sp>
        <p:nvSpPr>
          <p:cNvPr id="113" name="Text Box 29"/>
          <p:cNvSpPr/>
          <p:nvPr/>
        </p:nvSpPr>
        <p:spPr>
          <a:xfrm>
            <a:off x="5248440" y="1895400"/>
            <a:ext cx="33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デザイン・追加機能等、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あらゆるご要望に最大限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お応えします！</a:t>
            </a:r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4" name="AutoShape 32"/>
          <p:cNvSpPr/>
          <p:nvPr/>
        </p:nvSpPr>
        <p:spPr>
          <a:xfrm>
            <a:off x="523800" y="3371760"/>
            <a:ext cx="8096400" cy="1200240"/>
          </a:xfrm>
          <a:prstGeom prst="roundRect">
            <a:avLst>
              <a:gd name="adj" fmla="val 7144"/>
            </a:avLst>
          </a:prstGeom>
          <a:gradFill rotWithShape="0">
            <a:gsLst>
              <a:gs pos="0">
                <a:srgbClr val="f8f8f8"/>
              </a:gs>
              <a:gs pos="100000">
                <a:srgbClr val="dddddd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e6b9b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grpSp>
        <p:nvGrpSpPr>
          <p:cNvPr id="115" name="グループ化 41"/>
          <p:cNvGrpSpPr/>
          <p:nvPr/>
        </p:nvGrpSpPr>
        <p:grpSpPr>
          <a:xfrm>
            <a:off x="723960" y="3381480"/>
            <a:ext cx="4495680" cy="1228680"/>
            <a:chOff x="723960" y="3381480"/>
            <a:chExt cx="4495680" cy="1228680"/>
          </a:xfrm>
        </p:grpSpPr>
        <p:sp>
          <p:nvSpPr>
            <p:cNvPr id="116" name="AutoShape 33"/>
            <p:cNvSpPr/>
            <p:nvPr/>
          </p:nvSpPr>
          <p:spPr>
            <a:xfrm>
              <a:off x="990360" y="3381480"/>
              <a:ext cx="4229280" cy="1228680"/>
            </a:xfrm>
            <a:custGeom>
              <a:avLst/>
              <a:gdLst>
                <a:gd name="textAreaLeft" fmla="*/ 0 w 4229280"/>
                <a:gd name="textAreaRight" fmla="*/ 4229280 w 4229280"/>
                <a:gd name="textAreaTop" fmla="*/ 0 h 1228680"/>
                <a:gd name="textAreaBottom" fmla="*/ 1229040 h 12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02" y="0"/>
                  </a:lnTo>
                  <a:lnTo>
                    <a:pt x="21600" y="10800"/>
                  </a:lnTo>
                  <a:lnTo>
                    <a:pt x="193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19043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723960" y="3381480"/>
              <a:ext cx="152280" cy="1227240"/>
            </a:xfrm>
            <a:prstGeom prst="rect">
              <a:avLst/>
            </a:prstGeom>
            <a:solidFill>
              <a:srgbClr val="f19043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  <p:sp>
          <p:nvSpPr>
            <p:cNvPr id="118" name="Text Box 38"/>
            <p:cNvSpPr/>
            <p:nvPr/>
          </p:nvSpPr>
          <p:spPr>
            <a:xfrm>
              <a:off x="1276200" y="3705120"/>
              <a:ext cx="35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3399"/>
                  </a:solidFill>
                  <a:latin typeface="HGPｺﾞｼｯｸE"/>
                  <a:ea typeface="HGPｺﾞｼｯｸE"/>
                </a:rPr>
                <a:t>大量の制作</a:t>
              </a: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にもご対応</a:t>
              </a:r>
              <a:endParaRPr b="0" lang="en-US" sz="20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</p:grpSp>
      <p:sp>
        <p:nvSpPr>
          <p:cNvPr id="119" name="Text Box 39"/>
          <p:cNvSpPr/>
          <p:nvPr/>
        </p:nvSpPr>
        <p:spPr>
          <a:xfrm>
            <a:off x="5248440" y="3657600"/>
            <a:ext cx="33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大量のコンテンツ制作を、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安く、短納期で仕上げられます。</a:t>
            </a:r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0" name="AutoShape 41"/>
          <p:cNvSpPr/>
          <p:nvPr/>
        </p:nvSpPr>
        <p:spPr>
          <a:xfrm>
            <a:off x="523800" y="4981680"/>
            <a:ext cx="8096400" cy="1199880"/>
          </a:xfrm>
          <a:prstGeom prst="roundRect">
            <a:avLst>
              <a:gd name="adj" fmla="val 7144"/>
            </a:avLst>
          </a:prstGeom>
          <a:gradFill rotWithShape="0">
            <a:gsLst>
              <a:gs pos="0">
                <a:srgbClr val="f8f8f8"/>
              </a:gs>
              <a:gs pos="100000">
                <a:srgbClr val="dddddd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e6b9b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grpSp>
        <p:nvGrpSpPr>
          <p:cNvPr id="121" name="グループ化 42"/>
          <p:cNvGrpSpPr/>
          <p:nvPr/>
        </p:nvGrpSpPr>
        <p:grpSpPr>
          <a:xfrm>
            <a:off x="723960" y="4991040"/>
            <a:ext cx="4495680" cy="1228680"/>
            <a:chOff x="723960" y="4991040"/>
            <a:chExt cx="4495680" cy="1228680"/>
          </a:xfrm>
        </p:grpSpPr>
        <p:sp>
          <p:nvSpPr>
            <p:cNvPr id="122" name="AutoShape 42"/>
            <p:cNvSpPr/>
            <p:nvPr/>
          </p:nvSpPr>
          <p:spPr>
            <a:xfrm>
              <a:off x="990360" y="4991040"/>
              <a:ext cx="4229280" cy="1228680"/>
            </a:xfrm>
            <a:custGeom>
              <a:avLst/>
              <a:gdLst>
                <a:gd name="textAreaLeft" fmla="*/ 0 w 4229280"/>
                <a:gd name="textAreaRight" fmla="*/ 4229280 w 4229280"/>
                <a:gd name="textAreaTop" fmla="*/ 0 h 1228680"/>
                <a:gd name="textAreaBottom" fmla="*/ 1229040 h 12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02" y="0"/>
                  </a:lnTo>
                  <a:lnTo>
                    <a:pt x="21600" y="10800"/>
                  </a:lnTo>
                  <a:lnTo>
                    <a:pt x="193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19043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  <p:sp>
          <p:nvSpPr>
            <p:cNvPr id="123" name="Rectangle 43"/>
            <p:cNvSpPr/>
            <p:nvPr/>
          </p:nvSpPr>
          <p:spPr>
            <a:xfrm>
              <a:off x="723960" y="4991040"/>
              <a:ext cx="152280" cy="1227240"/>
            </a:xfrm>
            <a:prstGeom prst="rect">
              <a:avLst/>
            </a:prstGeom>
            <a:solidFill>
              <a:srgbClr val="f19043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  <p:sp>
          <p:nvSpPr>
            <p:cNvPr id="124" name="Text Box 47"/>
            <p:cNvSpPr/>
            <p:nvPr/>
          </p:nvSpPr>
          <p:spPr>
            <a:xfrm>
              <a:off x="1276200" y="5324400"/>
              <a:ext cx="367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3399"/>
                  </a:solidFill>
                  <a:latin typeface="HGPｺﾞｼｯｸE"/>
                  <a:ea typeface="HGPｺﾞｼｯｸE"/>
                </a:rPr>
                <a:t>熟練スタッフ</a:t>
              </a: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による制作体制</a:t>
              </a:r>
              <a:endParaRPr b="0" lang="en-US" sz="20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</p:grpSp>
      <p:sp>
        <p:nvSpPr>
          <p:cNvPr id="125" name="Text Box 48"/>
          <p:cNvSpPr/>
          <p:nvPr/>
        </p:nvSpPr>
        <p:spPr>
          <a:xfrm>
            <a:off x="5248440" y="5133960"/>
            <a:ext cx="33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制作～納品まで、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お客様のデータを責任をもって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お預かりします。</a:t>
            </a:r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grpSp>
        <p:nvGrpSpPr>
          <p:cNvPr id="126" name="グループ化 38"/>
          <p:cNvGrpSpPr/>
          <p:nvPr/>
        </p:nvGrpSpPr>
        <p:grpSpPr>
          <a:xfrm>
            <a:off x="523800" y="1557360"/>
            <a:ext cx="812880" cy="812880"/>
            <a:chOff x="523800" y="1557360"/>
            <a:chExt cx="812880" cy="812880"/>
          </a:xfrm>
        </p:grpSpPr>
        <p:sp>
          <p:nvSpPr>
            <p:cNvPr id="127" name="Oval 60"/>
            <p:cNvSpPr/>
            <p:nvPr/>
          </p:nvSpPr>
          <p:spPr>
            <a:xfrm>
              <a:off x="523800" y="1557360"/>
              <a:ext cx="812880" cy="81288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  <p:sp>
          <p:nvSpPr>
            <p:cNvPr id="128" name="Oval 61"/>
            <p:cNvSpPr/>
            <p:nvPr/>
          </p:nvSpPr>
          <p:spPr>
            <a:xfrm>
              <a:off x="580680" y="1614240"/>
              <a:ext cx="698760" cy="698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  <p:sp>
          <p:nvSpPr>
            <p:cNvPr id="129" name="Text Box 27"/>
            <p:cNvSpPr/>
            <p:nvPr/>
          </p:nvSpPr>
          <p:spPr>
            <a:xfrm>
              <a:off x="676080" y="1724040"/>
              <a:ext cx="5238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メイリオ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</p:grpSp>
      <p:grpSp>
        <p:nvGrpSpPr>
          <p:cNvPr id="130" name="グループ化 39"/>
          <p:cNvGrpSpPr/>
          <p:nvPr/>
        </p:nvGrpSpPr>
        <p:grpSpPr>
          <a:xfrm>
            <a:off x="523800" y="3166920"/>
            <a:ext cx="812880" cy="812880"/>
            <a:chOff x="523800" y="3166920"/>
            <a:chExt cx="812880" cy="812880"/>
          </a:xfrm>
        </p:grpSpPr>
        <p:sp>
          <p:nvSpPr>
            <p:cNvPr id="131" name="Oval 60"/>
            <p:cNvSpPr/>
            <p:nvPr/>
          </p:nvSpPr>
          <p:spPr>
            <a:xfrm>
              <a:off x="523800" y="3166920"/>
              <a:ext cx="812880" cy="81288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  <p:sp>
          <p:nvSpPr>
            <p:cNvPr id="132" name="Oval 61"/>
            <p:cNvSpPr/>
            <p:nvPr/>
          </p:nvSpPr>
          <p:spPr>
            <a:xfrm>
              <a:off x="580680" y="3223800"/>
              <a:ext cx="698760" cy="698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  <p:sp>
          <p:nvSpPr>
            <p:cNvPr id="133" name="Text Box 37"/>
            <p:cNvSpPr/>
            <p:nvPr/>
          </p:nvSpPr>
          <p:spPr>
            <a:xfrm>
              <a:off x="676080" y="3333600"/>
              <a:ext cx="5238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メイリオ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</p:grpSp>
      <p:grpSp>
        <p:nvGrpSpPr>
          <p:cNvPr id="134" name="グループ化 40"/>
          <p:cNvGrpSpPr/>
          <p:nvPr/>
        </p:nvGrpSpPr>
        <p:grpSpPr>
          <a:xfrm>
            <a:off x="523800" y="4776840"/>
            <a:ext cx="812880" cy="812880"/>
            <a:chOff x="523800" y="4776840"/>
            <a:chExt cx="812880" cy="812880"/>
          </a:xfrm>
        </p:grpSpPr>
        <p:sp>
          <p:nvSpPr>
            <p:cNvPr id="135" name="Oval 60"/>
            <p:cNvSpPr/>
            <p:nvPr/>
          </p:nvSpPr>
          <p:spPr>
            <a:xfrm>
              <a:off x="523800" y="4776840"/>
              <a:ext cx="812880" cy="81288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  <p:sp>
          <p:nvSpPr>
            <p:cNvPr id="136" name="Oval 61"/>
            <p:cNvSpPr/>
            <p:nvPr/>
          </p:nvSpPr>
          <p:spPr>
            <a:xfrm>
              <a:off x="580680" y="4833720"/>
              <a:ext cx="698760" cy="698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33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  <p:sp>
          <p:nvSpPr>
            <p:cNvPr id="137" name="Text Box 46"/>
            <p:cNvSpPr/>
            <p:nvPr/>
          </p:nvSpPr>
          <p:spPr>
            <a:xfrm>
              <a:off x="676080" y="4943520"/>
              <a:ext cx="5238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メイリオ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フッター プレースホルダー 1"/>
          <p:cNvSpPr/>
          <p:nvPr/>
        </p:nvSpPr>
        <p:spPr>
          <a:xfrm>
            <a:off x="433440" y="6688080"/>
            <a:ext cx="36399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© 2011 LOGOSWARE CORPORATION. All Rights Reserved </a:t>
            </a:r>
            <a:endParaRPr b="0" lang="en-US" sz="10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9" name="スライド番号プレースホルダー 2"/>
          <p:cNvSpPr/>
          <p:nvPr/>
        </p:nvSpPr>
        <p:spPr>
          <a:xfrm>
            <a:off x="8416800" y="6642000"/>
            <a:ext cx="48096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F663-01B6-4B06-817A-02455686292E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3019320" y="1828800"/>
            <a:ext cx="5639040" cy="27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1619280" y="900000"/>
            <a:ext cx="3048120" cy="5305680"/>
          </a:xfrm>
          <a:prstGeom prst="rect">
            <a:avLst/>
          </a:prstGeom>
          <a:ln w="0">
            <a:noFill/>
          </a:ln>
        </p:spPr>
      </p:pic>
      <p:sp>
        <p:nvSpPr>
          <p:cNvPr id="142" name="テキスト ボックス 48"/>
          <p:cNvSpPr/>
          <p:nvPr/>
        </p:nvSpPr>
        <p:spPr>
          <a:xfrm>
            <a:off x="821880" y="84456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ハイコスト</a:t>
            </a:r>
            <a:endParaRPr b="0" lang="en-US" sz="1400" spc="-1" strike="noStrike">
              <a:solidFill>
                <a:srgbClr val="000000"/>
              </a:solidFill>
              <a:latin typeface="ヒラギノ角ゴ Pro W6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ハイクオリティ</a:t>
            </a:r>
            <a:endParaRPr b="0" lang="en-US" sz="14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3" name="テキスト ボックス 48"/>
          <p:cNvSpPr/>
          <p:nvPr/>
        </p:nvSpPr>
        <p:spPr>
          <a:xfrm>
            <a:off x="822960" y="556416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ローコスト</a:t>
            </a:r>
            <a:endParaRPr b="0" lang="en-US" sz="1400" spc="-1" strike="noStrike">
              <a:solidFill>
                <a:srgbClr val="000000"/>
              </a:solidFill>
              <a:latin typeface="ヒラギノ角ゴ Pro W6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ロークオリティ</a:t>
            </a:r>
            <a:endParaRPr b="0" lang="en-US" sz="14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4" name="テキスト ボックス 48"/>
          <p:cNvSpPr/>
          <p:nvPr/>
        </p:nvSpPr>
        <p:spPr>
          <a:xfrm>
            <a:off x="4610160" y="1324080"/>
            <a:ext cx="390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LASH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やアプリ等の専用／独自コンテンツ</a:t>
            </a:r>
            <a:endParaRPr b="0" lang="en-US" sz="14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5" name="テキスト ボックス 48"/>
          <p:cNvSpPr/>
          <p:nvPr/>
        </p:nvSpPr>
        <p:spPr>
          <a:xfrm>
            <a:off x="5140800" y="5234040"/>
            <a:ext cx="251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PPT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TXT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等の静的コンテンツ</a:t>
            </a:r>
            <a:endParaRPr b="0" lang="en-US" sz="14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テキスト ボックス 48"/>
          <p:cNvSpPr/>
          <p:nvPr/>
        </p:nvSpPr>
        <p:spPr>
          <a:xfrm>
            <a:off x="4937040" y="1812960"/>
            <a:ext cx="31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3300"/>
                </a:solidFill>
                <a:latin typeface="HGP創英角ｺﾞｼｯｸUB"/>
                <a:ea typeface="HGP創英角ｺﾞｼｯｸUB"/>
              </a:rPr>
              <a:t>当社提供可能サービス</a:t>
            </a:r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831000" cy="492120"/>
          </a:xfrm>
          <a:prstGeom prst="rect">
            <a:avLst/>
          </a:prstGeom>
          <a:noFill/>
          <a:ln w="0">
            <a:noFill/>
          </a:ln>
        </p:spPr>
        <p:txBody>
          <a:bodyPr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メイリオ"/>
              </a:rPr>
              <a:t>参考：</a:t>
            </a:r>
            <a:r>
              <a:rPr b="0" lang="en-US" sz="2000" spc="-1" strike="noStrike">
                <a:solidFill>
                  <a:srgbClr val="ffffff"/>
                </a:solidFill>
                <a:latin typeface="メイリオ"/>
              </a:rPr>
              <a:t>e</a:t>
            </a:r>
            <a:r>
              <a:rPr b="0" lang="ja-JP" sz="2000" spc="-1" strike="noStrike">
                <a:solidFill>
                  <a:srgbClr val="ffffff"/>
                </a:solidFill>
                <a:latin typeface="メイリオ"/>
              </a:rPr>
              <a:t>ラーニング教材の作り込みについて</a:t>
            </a:r>
            <a:endParaRPr b="0" lang="en-US" sz="2000" spc="-1" strike="noStrike">
              <a:solidFill>
                <a:srgbClr val="ffffff"/>
              </a:solidFill>
              <a:latin typeface="メイリオ"/>
            </a:endParaRPr>
          </a:p>
        </p:txBody>
      </p:sp>
      <p:sp>
        <p:nvSpPr>
          <p:cNvPr id="148" name="Line 11"/>
          <p:cNvSpPr/>
          <p:nvPr/>
        </p:nvSpPr>
        <p:spPr>
          <a:xfrm flipV="1">
            <a:off x="1324080" y="3238560"/>
            <a:ext cx="0" cy="24768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1324080" y="3924360"/>
            <a:ext cx="0" cy="24768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grpSp>
        <p:nvGrpSpPr>
          <p:cNvPr id="150" name="グループ化 49"/>
          <p:cNvGrpSpPr/>
          <p:nvPr/>
        </p:nvGrpSpPr>
        <p:grpSpPr>
          <a:xfrm>
            <a:off x="1063080" y="3448080"/>
            <a:ext cx="1165680" cy="520200"/>
            <a:chOff x="1063080" y="3448080"/>
            <a:chExt cx="1165680" cy="520200"/>
          </a:xfrm>
        </p:grpSpPr>
        <p:sp>
          <p:nvSpPr>
            <p:cNvPr id="151" name="直線コネクタ 88"/>
            <p:cNvSpPr/>
            <p:nvPr/>
          </p:nvSpPr>
          <p:spPr>
            <a:xfrm>
              <a:off x="1314360" y="3713040"/>
              <a:ext cx="914400" cy="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  <p:sp>
          <p:nvSpPr>
            <p:cNvPr id="152" name="テキスト ボックス 48"/>
            <p:cNvSpPr/>
            <p:nvPr/>
          </p:nvSpPr>
          <p:spPr>
            <a:xfrm>
              <a:off x="1063080" y="3448080"/>
              <a:ext cx="500760" cy="520200"/>
            </a:xfrm>
            <a:prstGeom prst="rect">
              <a:avLst/>
            </a:prstGeom>
            <a:solidFill>
              <a:srgbClr val="bccbe2"/>
            </a:solidFill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タイム</a:t>
              </a:r>
              <a:endParaRPr b="0" lang="en-US" sz="1400" spc="-1" strike="noStrike">
                <a:solidFill>
                  <a:srgbClr val="000000"/>
                </a:solidFill>
                <a:latin typeface="ヒラギノ角ゴ Pro W6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ライン</a:t>
              </a:r>
              <a:endParaRPr b="0" lang="en-US" sz="14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</p:grpSp>
      <p:sp>
        <p:nvSpPr>
          <p:cNvPr id="153" name="Text Box 14"/>
          <p:cNvSpPr/>
          <p:nvPr/>
        </p:nvSpPr>
        <p:spPr>
          <a:xfrm>
            <a:off x="961920" y="2905200"/>
            <a:ext cx="7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有</a:t>
            </a:r>
            <a:endParaRPr b="0" lang="en-US" sz="16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961920" y="4124160"/>
            <a:ext cx="7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無</a:t>
            </a:r>
            <a:endParaRPr b="0" lang="en-US" sz="16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5" name="Line 17"/>
          <p:cNvSpPr/>
          <p:nvPr/>
        </p:nvSpPr>
        <p:spPr>
          <a:xfrm flipH="1">
            <a:off x="3180960" y="1504800"/>
            <a:ext cx="1428840" cy="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grpSp>
        <p:nvGrpSpPr>
          <p:cNvPr id="156" name="グループ化 51"/>
          <p:cNvGrpSpPr/>
          <p:nvPr/>
        </p:nvGrpSpPr>
        <p:grpSpPr>
          <a:xfrm>
            <a:off x="4562640" y="2724120"/>
            <a:ext cx="3886200" cy="438120"/>
            <a:chOff x="4562640" y="2724120"/>
            <a:chExt cx="3886200" cy="438120"/>
          </a:xfrm>
        </p:grpSpPr>
        <p:sp>
          <p:nvSpPr>
            <p:cNvPr id="157" name="AutoShape 121"/>
            <p:cNvSpPr/>
            <p:nvPr/>
          </p:nvSpPr>
          <p:spPr>
            <a:xfrm>
              <a:off x="4562640" y="2724120"/>
              <a:ext cx="3886200" cy="438120"/>
            </a:xfrm>
            <a:prstGeom prst="roundRect">
              <a:avLst>
                <a:gd name="adj" fmla="val 50000"/>
              </a:avLst>
            </a:prstGeom>
            <a:solidFill>
              <a:srgbClr val="ff99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  <p:sp>
          <p:nvSpPr>
            <p:cNvPr id="158" name="AutoShape 122"/>
            <p:cNvSpPr/>
            <p:nvPr/>
          </p:nvSpPr>
          <p:spPr>
            <a:xfrm>
              <a:off x="4629240" y="2769840"/>
              <a:ext cx="3746520" cy="344520"/>
            </a:xfrm>
            <a:prstGeom prst="roundRect">
              <a:avLst>
                <a:gd name="adj" fmla="val 50000"/>
              </a:avLst>
            </a:prstGeom>
            <a:solidFill>
              <a:srgbClr val="f19043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  <p:sp>
          <p:nvSpPr>
            <p:cNvPr id="159" name="テキスト ボックス 48"/>
            <p:cNvSpPr/>
            <p:nvPr/>
          </p:nvSpPr>
          <p:spPr>
            <a:xfrm>
              <a:off x="4610160" y="2779560"/>
              <a:ext cx="375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HGPｺﾞｼｯｸE"/>
                  <a:ea typeface="HGPｺﾞｼｯｸE"/>
                </a:rPr>
                <a:t>STORM </a:t>
              </a:r>
              <a:r>
                <a:rPr b="0" lang="ja-JP" sz="1400" spc="-1" strike="noStrike">
                  <a:solidFill>
                    <a:srgbClr val="ffffff"/>
                  </a:solidFill>
                  <a:latin typeface="HGPｺﾞｼｯｸE"/>
                  <a:ea typeface="HGPｺﾞｼｯｸE"/>
                </a:rPr>
                <a:t>制作サービス （</a:t>
              </a:r>
              <a:r>
                <a:rPr b="0" lang="en-US" sz="1400" spc="-1" strike="noStrike">
                  <a:solidFill>
                    <a:srgbClr val="ffffff"/>
                  </a:solidFill>
                  <a:latin typeface="HGPｺﾞｼｯｸE"/>
                  <a:ea typeface="HGPｺﾞｼｯｸE"/>
                </a:rPr>
                <a:t>e </a:t>
              </a:r>
              <a:r>
                <a:rPr b="0" lang="ja-JP" sz="1400" spc="-1" strike="noStrike">
                  <a:solidFill>
                    <a:srgbClr val="ffffff"/>
                  </a:solidFill>
                  <a:latin typeface="HGPｺﾞｼｯｸE"/>
                  <a:ea typeface="HGPｺﾞｼｯｸE"/>
                </a:rPr>
                <a:t>ラーニング業界）</a:t>
              </a:r>
              <a:endParaRPr b="0" lang="en-US" sz="14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</p:grpSp>
      <p:grpSp>
        <p:nvGrpSpPr>
          <p:cNvPr id="160" name="グループ化 53"/>
          <p:cNvGrpSpPr/>
          <p:nvPr/>
        </p:nvGrpSpPr>
        <p:grpSpPr>
          <a:xfrm>
            <a:off x="4562640" y="4010040"/>
            <a:ext cx="3886200" cy="438120"/>
            <a:chOff x="4562640" y="4010040"/>
            <a:chExt cx="3886200" cy="438120"/>
          </a:xfrm>
        </p:grpSpPr>
        <p:sp>
          <p:nvSpPr>
            <p:cNvPr id="161" name="AutoShape 121"/>
            <p:cNvSpPr/>
            <p:nvPr/>
          </p:nvSpPr>
          <p:spPr>
            <a:xfrm>
              <a:off x="4562640" y="4010040"/>
              <a:ext cx="3886200" cy="438120"/>
            </a:xfrm>
            <a:prstGeom prst="roundRect">
              <a:avLst>
                <a:gd name="adj" fmla="val 50000"/>
              </a:avLst>
            </a:prstGeom>
            <a:solidFill>
              <a:srgbClr val="cc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  <p:sp>
          <p:nvSpPr>
            <p:cNvPr id="162" name="AutoShape 122"/>
            <p:cNvSpPr/>
            <p:nvPr/>
          </p:nvSpPr>
          <p:spPr>
            <a:xfrm>
              <a:off x="4629240" y="4055760"/>
              <a:ext cx="3746520" cy="344520"/>
            </a:xfrm>
            <a:prstGeom prst="roundRect">
              <a:avLst>
                <a:gd name="adj" fmla="val 50000"/>
              </a:avLst>
            </a:prstGeom>
            <a:solidFill>
              <a:srgbClr val="cc33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  <p:sp>
          <p:nvSpPr>
            <p:cNvPr id="163" name="テキスト ボックス 48"/>
            <p:cNvSpPr/>
            <p:nvPr/>
          </p:nvSpPr>
          <p:spPr>
            <a:xfrm>
              <a:off x="4610160" y="4068720"/>
              <a:ext cx="374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HGPｺﾞｼｯｸE"/>
                  <a:ea typeface="HGPｺﾞｼｯｸE"/>
                </a:rPr>
                <a:t>FLIPPER </a:t>
              </a:r>
              <a:r>
                <a:rPr b="0" lang="ja-JP" sz="1400" spc="-1" strike="noStrike">
                  <a:solidFill>
                    <a:srgbClr val="ffffff"/>
                  </a:solidFill>
                  <a:latin typeface="HGPｺﾞｼｯｸE"/>
                  <a:ea typeface="HGPｺﾞｼｯｸE"/>
                </a:rPr>
                <a:t>制作サービス （デジタルブック）</a:t>
              </a:r>
              <a:endParaRPr b="0" lang="en-US" sz="14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</p:grpSp>
      <p:grpSp>
        <p:nvGrpSpPr>
          <p:cNvPr id="164" name="グループ化 50"/>
          <p:cNvGrpSpPr/>
          <p:nvPr/>
        </p:nvGrpSpPr>
        <p:grpSpPr>
          <a:xfrm>
            <a:off x="4562640" y="2238480"/>
            <a:ext cx="3886200" cy="438120"/>
            <a:chOff x="4562640" y="2238480"/>
            <a:chExt cx="3886200" cy="438120"/>
          </a:xfrm>
        </p:grpSpPr>
        <p:sp>
          <p:nvSpPr>
            <p:cNvPr id="165" name="AutoShape 121"/>
            <p:cNvSpPr/>
            <p:nvPr/>
          </p:nvSpPr>
          <p:spPr>
            <a:xfrm>
              <a:off x="4562640" y="2238480"/>
              <a:ext cx="3886200" cy="438120"/>
            </a:xfrm>
            <a:prstGeom prst="roundRect">
              <a:avLst>
                <a:gd name="adj" fmla="val 50000"/>
              </a:avLst>
            </a:prstGeom>
            <a:solidFill>
              <a:srgbClr val="ff99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  <p:sp>
          <p:nvSpPr>
            <p:cNvPr id="166" name="AutoShape 122"/>
            <p:cNvSpPr/>
            <p:nvPr/>
          </p:nvSpPr>
          <p:spPr>
            <a:xfrm>
              <a:off x="4629240" y="2284200"/>
              <a:ext cx="3746520" cy="344520"/>
            </a:xfrm>
            <a:prstGeom prst="roundRect">
              <a:avLst>
                <a:gd name="adj" fmla="val 50000"/>
              </a:avLst>
            </a:prstGeom>
            <a:solidFill>
              <a:srgbClr val="f19043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  <p:sp>
          <p:nvSpPr>
            <p:cNvPr id="167" name="テキスト ボックス 48"/>
            <p:cNvSpPr/>
            <p:nvPr/>
          </p:nvSpPr>
          <p:spPr>
            <a:xfrm>
              <a:off x="4610160" y="2287440"/>
              <a:ext cx="375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HGPｺﾞｼｯｸE"/>
                  <a:ea typeface="HGPｺﾞｼｯｸE"/>
                </a:rPr>
                <a:t>STORM </a:t>
              </a:r>
              <a:r>
                <a:rPr b="0" lang="ja-JP" sz="1400" spc="-1" strike="noStrike">
                  <a:solidFill>
                    <a:srgbClr val="ffffff"/>
                  </a:solidFill>
                  <a:latin typeface="HGPｺﾞｼｯｸE"/>
                  <a:ea typeface="HGPｺﾞｼｯｸE"/>
                </a:rPr>
                <a:t>制作サービス （</a:t>
              </a:r>
              <a:r>
                <a:rPr b="0" lang="en-US" sz="1400" spc="-1" strike="noStrike">
                  <a:solidFill>
                    <a:srgbClr val="ffffff"/>
                  </a:solidFill>
                  <a:latin typeface="HGPｺﾞｼｯｸE"/>
                  <a:ea typeface="HGPｺﾞｼｯｸE"/>
                </a:rPr>
                <a:t>WEB </a:t>
              </a:r>
              <a:r>
                <a:rPr b="0" lang="ja-JP" sz="1400" spc="-1" strike="noStrike">
                  <a:solidFill>
                    <a:srgbClr val="ffffff"/>
                  </a:solidFill>
                  <a:latin typeface="HGPｺﾞｼｯｸE"/>
                  <a:ea typeface="HGPｺﾞｼｯｸE"/>
                </a:rPr>
                <a:t>コンテンツ）</a:t>
              </a:r>
              <a:endParaRPr b="0" lang="en-US" sz="14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</p:grpSp>
      <p:grpSp>
        <p:nvGrpSpPr>
          <p:cNvPr id="168" name="グループ化 52"/>
          <p:cNvGrpSpPr/>
          <p:nvPr/>
        </p:nvGrpSpPr>
        <p:grpSpPr>
          <a:xfrm>
            <a:off x="4562640" y="3209760"/>
            <a:ext cx="3886200" cy="438480"/>
            <a:chOff x="4562640" y="3209760"/>
            <a:chExt cx="3886200" cy="438480"/>
          </a:xfrm>
        </p:grpSpPr>
        <p:sp>
          <p:nvSpPr>
            <p:cNvPr id="169" name="AutoShape 121"/>
            <p:cNvSpPr/>
            <p:nvPr/>
          </p:nvSpPr>
          <p:spPr>
            <a:xfrm>
              <a:off x="4562640" y="3209760"/>
              <a:ext cx="3886200" cy="438480"/>
            </a:xfrm>
            <a:prstGeom prst="roundRect">
              <a:avLst>
                <a:gd name="adj" fmla="val 50000"/>
              </a:avLst>
            </a:prstGeom>
            <a:solidFill>
              <a:srgbClr val="ff99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  <p:sp>
          <p:nvSpPr>
            <p:cNvPr id="170" name="AutoShape 122"/>
            <p:cNvSpPr/>
            <p:nvPr/>
          </p:nvSpPr>
          <p:spPr>
            <a:xfrm>
              <a:off x="4629240" y="3255840"/>
              <a:ext cx="3746520" cy="344880"/>
            </a:xfrm>
            <a:prstGeom prst="roundRect">
              <a:avLst>
                <a:gd name="adj" fmla="val 50000"/>
              </a:avLst>
            </a:prstGeom>
            <a:solidFill>
              <a:srgbClr val="f19043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  <p:sp>
          <p:nvSpPr>
            <p:cNvPr id="171" name="テキスト ボックス 48"/>
            <p:cNvSpPr/>
            <p:nvPr/>
          </p:nvSpPr>
          <p:spPr>
            <a:xfrm>
              <a:off x="4610160" y="3276360"/>
              <a:ext cx="37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HGPｺﾞｼｯｸE"/>
                  <a:ea typeface="HGPｺﾞｼｯｸE"/>
                </a:rPr>
                <a:t>STORM </a:t>
              </a:r>
              <a:r>
                <a:rPr b="0" lang="ja-JP" sz="1400" spc="-1" strike="noStrike">
                  <a:solidFill>
                    <a:srgbClr val="ffffff"/>
                  </a:solidFill>
                  <a:latin typeface="HGPｺﾞｼｯｸE"/>
                  <a:ea typeface="HGPｺﾞｼｯｸE"/>
                </a:rPr>
                <a:t>制作サービス （スピード対応）</a:t>
              </a:r>
              <a:endParaRPr b="0" lang="en-US" sz="1400" spc="-1" strike="noStrike">
                <a:solidFill>
                  <a:srgbClr val="000000"/>
                </a:solidFill>
                <a:latin typeface="ヒラギノ角ゴ Pro W6"/>
              </a:endParaRPr>
            </a:p>
          </p:txBody>
        </p:sp>
      </p:grpSp>
      <p:sp>
        <p:nvSpPr>
          <p:cNvPr id="172" name="Line 30"/>
          <p:cNvSpPr/>
          <p:nvPr/>
        </p:nvSpPr>
        <p:spPr>
          <a:xfrm flipH="1">
            <a:off x="3466800" y="3429000"/>
            <a:ext cx="1143000" cy="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Line 31"/>
          <p:cNvSpPr/>
          <p:nvPr/>
        </p:nvSpPr>
        <p:spPr>
          <a:xfrm flipH="1">
            <a:off x="3485880" y="5410080"/>
            <a:ext cx="1514520" cy="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4" name="AutoShape 33"/>
          <p:cNvSpPr/>
          <p:nvPr/>
        </p:nvSpPr>
        <p:spPr>
          <a:xfrm>
            <a:off x="2695680" y="2631960"/>
            <a:ext cx="552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5" name="Line 37"/>
          <p:cNvSpPr/>
          <p:nvPr/>
        </p:nvSpPr>
        <p:spPr>
          <a:xfrm flipH="1">
            <a:off x="3733920" y="2962440"/>
            <a:ext cx="876240" cy="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6" name="Line 38"/>
          <p:cNvSpPr/>
          <p:nvPr/>
        </p:nvSpPr>
        <p:spPr>
          <a:xfrm flipH="1">
            <a:off x="3466800" y="2457360"/>
            <a:ext cx="1143000" cy="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Line 39"/>
          <p:cNvSpPr/>
          <p:nvPr/>
        </p:nvSpPr>
        <p:spPr>
          <a:xfrm flipH="1">
            <a:off x="3466800" y="4257720"/>
            <a:ext cx="1143000" cy="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8" name="AutoShape 16"/>
          <p:cNvSpPr/>
          <p:nvPr/>
        </p:nvSpPr>
        <p:spPr>
          <a:xfrm>
            <a:off x="399960" y="866880"/>
            <a:ext cx="247680" cy="2562120"/>
          </a:xfrm>
          <a:prstGeom prst="upArrow">
            <a:avLst>
              <a:gd name="adj1" fmla="val 50000"/>
              <a:gd name="adj2" fmla="val 98033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9" name="AutoShape 40"/>
          <p:cNvSpPr/>
          <p:nvPr/>
        </p:nvSpPr>
        <p:spPr>
          <a:xfrm flipV="1">
            <a:off x="399960" y="3428280"/>
            <a:ext cx="247680" cy="2647800"/>
          </a:xfrm>
          <a:prstGeom prst="upArrow">
            <a:avLst>
              <a:gd name="adj1" fmla="val 50000"/>
              <a:gd name="adj2" fmla="val 9804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pic>
        <p:nvPicPr>
          <p:cNvPr id="180" name="図 42" descr="logo_F3_1.png"/>
          <p:cNvPicPr/>
          <p:nvPr/>
        </p:nvPicPr>
        <p:blipFill>
          <a:blip r:embed="rId3"/>
          <a:stretch/>
        </p:blipFill>
        <p:spPr>
          <a:xfrm>
            <a:off x="2543040" y="4381560"/>
            <a:ext cx="1238400" cy="244440"/>
          </a:xfrm>
          <a:prstGeom prst="rect">
            <a:avLst/>
          </a:prstGeom>
          <a:ln w="0">
            <a:noFill/>
          </a:ln>
        </p:spPr>
      </p:pic>
      <p:pic>
        <p:nvPicPr>
          <p:cNvPr id="181" name="図 43" descr="logo_STORM_1.png"/>
          <p:cNvPicPr/>
          <p:nvPr/>
        </p:nvPicPr>
        <p:blipFill>
          <a:blip r:embed="rId4"/>
          <a:stretch/>
        </p:blipFill>
        <p:spPr>
          <a:xfrm>
            <a:off x="2567160" y="2762280"/>
            <a:ext cx="1062000" cy="29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フッター プレースホルダ 1"/>
          <p:cNvSpPr/>
          <p:nvPr/>
        </p:nvSpPr>
        <p:spPr>
          <a:xfrm>
            <a:off x="433440" y="6688080"/>
            <a:ext cx="36399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© 2011 LOGOSWARE CORPORATION. All Rights Reserved </a:t>
            </a:r>
            <a:endParaRPr b="0" lang="en-US" sz="10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3" name="スライド番号プレースホルダ 2"/>
          <p:cNvSpPr/>
          <p:nvPr/>
        </p:nvSpPr>
        <p:spPr>
          <a:xfrm>
            <a:off x="8416800" y="6642000"/>
            <a:ext cx="48096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BDF5-35C1-4798-9E72-0F54A5CC6755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4" name="テキスト ボックス 48"/>
          <p:cNvSpPr/>
          <p:nvPr/>
        </p:nvSpPr>
        <p:spPr>
          <a:xfrm>
            <a:off x="2497320" y="2763720"/>
            <a:ext cx="414936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ご連絡は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WEB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メールで承っております。</a:t>
            </a:r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ご不明な点やご質問などございましたらお気軽にご連絡ください。</a:t>
            </a:r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19043"/>
                </a:solidFill>
                <a:latin typeface="メイリオ"/>
                <a:ea typeface="メイリオ"/>
              </a:rPr>
              <a:t>http://service.logosware.com/inquiry</a:t>
            </a:r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19043"/>
                </a:solidFill>
                <a:latin typeface="メイリオ"/>
                <a:ea typeface="メイリオ"/>
              </a:rPr>
              <a:t>seisaku@logosware.com</a:t>
            </a:r>
            <a:endParaRPr b="0" lang="en-US" sz="1800" spc="-1" strike="noStrike">
              <a:solidFill>
                <a:srgbClr val="000000"/>
              </a:solidFill>
              <a:latin typeface="ヒラギノ角ゴ Pro W6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（担当：小室）</a:t>
            </a:r>
            <a:endParaRPr b="0" lang="en-US" sz="24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pic>
        <p:nvPicPr>
          <p:cNvPr id="185" name="図 5" descr="logo_LOGOSWARE3.png"/>
          <p:cNvPicPr/>
          <p:nvPr/>
        </p:nvPicPr>
        <p:blipFill>
          <a:blip r:embed="rId1"/>
          <a:stretch/>
        </p:blipFill>
        <p:spPr>
          <a:xfrm>
            <a:off x="4067280" y="1724040"/>
            <a:ext cx="1009440" cy="8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07:53:42Z</dcterms:created>
  <dc:creator>P'adre</dc:creator>
  <dc:description/>
  <dc:language>en-US</dc:language>
  <cp:lastModifiedBy>komuro</cp:lastModifiedBy>
  <dcterms:modified xsi:type="dcterms:W3CDTF">2011-05-11T09:43:18Z</dcterms:modified>
  <cp:revision>169</cp:revision>
  <dc:subject/>
  <dc:title>スライド 1</dc:title>
</cp:coreProperties>
</file>