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6E8E-52FF-46C1-AAAA-4B9313D3CD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D184-1D7C-4B4E-8D7C-E19D281DAD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ブラッシュアップ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6556-1FC2-4D2C-A380-3307500EA1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ブラッシュアップ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F46B-BEFC-424C-A13B-16595552F6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ブラッシュアップ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5C4F-BF67-4BDA-8AC4-41AFADE5CD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5D9-06C1-4420-BB35-EF81B5F7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8BA-8F53-4A1C-9C61-4AA8668C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4FC-5450-44D2-9BB5-731E3825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A46-D482-4562-800C-8C3523AD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451-8A8C-4074-9EDF-485A08A5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2A0-6CEC-47BC-B60E-8926BFEF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155-CF55-4A03-9873-7283CCF4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B77-1871-4715-B8FA-831EB102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96C-001A-465D-9E64-6F52F869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6B2-776F-49A7-BEF0-C36A149A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168-EFC4-4F00-B095-B783E16C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7B30-61B4-4F06-AC4F-52765D4A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8135-A1BC-4D98-A7B0-691E2347FDB5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STORM</a:t>
            </a:r>
            <a:r>
              <a:rPr b="0" lang="ja-JP" sz="36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制作サービスのご案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1"/>
          <p:cNvSpPr/>
          <p:nvPr/>
        </p:nvSpPr>
        <p:spPr>
          <a:xfrm>
            <a:off x="3067200" y="610560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ロゴスウェア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正方形/長方形 5"/>
          <p:cNvSpPr/>
          <p:nvPr/>
        </p:nvSpPr>
        <p:spPr>
          <a:xfrm>
            <a:off x="285840" y="879480"/>
            <a:ext cx="8643960" cy="6429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08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成ツール開発ベンダーがご提供する制作サービス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72680" cy="476280"/>
          </a:xfrm>
          <a:prstGeom prst="rect">
            <a:avLst/>
          </a:prstGeom>
          <a:noFill/>
          <a:ln w="0">
            <a:noFill/>
          </a:ln>
        </p:spPr>
        <p:txBody>
          <a:bodyPr tIns="144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STORM</a:t>
            </a:r>
            <a:r>
              <a:rPr b="0" lang="ja-JP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制作サービスの強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24000" y="1809720"/>
            <a:ext cx="855324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１．開発ベンダーだからこそ出来る柔軟なカスタマイズ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デザイン・追加機能等、あらゆるご要望に最大限お答えします！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２．大量の制作にもご対応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大量のコンテンツ制作を、安く、短納期で仕上げられま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３．熟練スタッフによる制作体制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ヒラギノ角ゴ Pro W6"/>
                <a:ea typeface="ヒラギノ角ゴ Pro W6"/>
              </a:rPr>
              <a:t>制作～納品まで、お客様のデータを責任をもってお預かりします。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0" y="56196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4" name="スライド番号プレースホルダー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E843-6A2C-461C-8AC4-DBD9EEB18CF3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スライド番号プレースホルダー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EBA6-98D9-45D6-A8D8-53B0E028A83B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タイトル 1"/>
          <p:cNvSpPr/>
          <p:nvPr/>
        </p:nvSpPr>
        <p:spPr>
          <a:xfrm>
            <a:off x="0" y="0"/>
            <a:ext cx="8572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参考：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e</a:t>
            </a:r>
            <a:r>
              <a:rPr b="0" lang="ja-JP" sz="2000" spc="-1" strike="noStrike">
                <a:solidFill>
                  <a:srgbClr val="000000"/>
                </a:solidFill>
                <a:latin typeface="ヒラギノ角ゴ Pro W3"/>
                <a:ea typeface="ヒラギノ角ゴ Pro W3"/>
              </a:rPr>
              <a:t>ラーニング教材の作り込みについて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Line 31"/>
          <p:cNvSpPr/>
          <p:nvPr/>
        </p:nvSpPr>
        <p:spPr>
          <a:xfrm>
            <a:off x="0" y="56196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24000" y="882720"/>
          <a:ext cx="8458200" cy="5365800"/>
        </p:xfrm>
        <a:graphic>
          <a:graphicData uri="http://schemas.openxmlformats.org/drawingml/2006/table">
            <a:tbl>
              <a:tblPr/>
              <a:tblGrid>
                <a:gridCol w="1104840"/>
                <a:gridCol w="990360"/>
                <a:gridCol w="1657440"/>
                <a:gridCol w="3314880"/>
                <a:gridCol w="13906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タイム</a:t>
                      </a:r>
                      <a:br>
                        <a:rPr sz="1800"/>
                      </a:b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ライ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分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備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858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専用／独自</a:t>
                      </a:r>
                      <a:br>
                        <a:rPr sz="1800"/>
                      </a:b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コンテン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FLASH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やアプリ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ST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STORM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制作サービス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For WEB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コンテン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STORM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制作サービス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For e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ラーニング業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STORM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制作サービス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For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スピード対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FLI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FLIPPER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制作サービス</a:t>
                      </a:r>
                      <a:br>
                        <a:rPr sz="1800"/>
                      </a:b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（デジタルブック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b4b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静的</a:t>
                      </a:r>
                      <a:br>
                        <a:rPr sz="1800"/>
                      </a:b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コンテン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DF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PT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XT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テキスト ボックス 48"/>
          <p:cNvSpPr/>
          <p:nvPr/>
        </p:nvSpPr>
        <p:spPr>
          <a:xfrm>
            <a:off x="478440" y="15588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ハイコスト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ハイクオリティ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テキスト ボックス 48"/>
          <p:cNvSpPr/>
          <p:nvPr/>
        </p:nvSpPr>
        <p:spPr>
          <a:xfrm>
            <a:off x="480240" y="57546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ローコスト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ロークオリティ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Line 139"/>
          <p:cNvSpPr/>
          <p:nvPr/>
        </p:nvSpPr>
        <p:spPr>
          <a:xfrm>
            <a:off x="876240" y="2038320"/>
            <a:ext cx="0" cy="3733920"/>
          </a:xfrm>
          <a:prstGeom prst="line">
            <a:avLst/>
          </a:prstGeom>
          <a:ln w="38160">
            <a:solidFill>
              <a:srgbClr val="ff612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AutoShape 140"/>
          <p:cNvSpPr/>
          <p:nvPr/>
        </p:nvSpPr>
        <p:spPr>
          <a:xfrm>
            <a:off x="7467480" y="2352600"/>
            <a:ext cx="171720" cy="3029040"/>
          </a:xfrm>
          <a:custGeom>
            <a:avLst/>
            <a:gdLst>
              <a:gd name="textAreaLeft" fmla="*/ 0 w 171720"/>
              <a:gd name="textAreaRight" fmla="*/ 61920 w 1717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Text Box 141"/>
          <p:cNvSpPr/>
          <p:nvPr/>
        </p:nvSpPr>
        <p:spPr>
          <a:xfrm>
            <a:off x="7686720" y="3324240"/>
            <a:ext cx="13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当社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提供可能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サービス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テキスト ボックス 48"/>
          <p:cNvSpPr/>
          <p:nvPr/>
        </p:nvSpPr>
        <p:spPr>
          <a:xfrm>
            <a:off x="2497320" y="2763720"/>
            <a:ext cx="414936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ご連絡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・メールで承っております。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ご不明な点やご質問などございましたらお気軽にご連絡ください。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19043"/>
                </a:solidFill>
                <a:latin typeface="メイリオ"/>
              </a:rPr>
              <a:t>http://service.logosware.com/inquiry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19043"/>
                </a:solidFill>
                <a:latin typeface="メイリオ"/>
              </a:rPr>
              <a:t>seisaku@logosware.c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（担当：小室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65" name="図 5" descr="logo_LOGOSWARE3.png"/>
          <p:cNvPicPr/>
          <p:nvPr/>
        </p:nvPicPr>
        <p:blipFill>
          <a:blip r:embed="rId1"/>
          <a:stretch/>
        </p:blipFill>
        <p:spPr>
          <a:xfrm>
            <a:off x="4067280" y="1724040"/>
            <a:ext cx="10094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07:53:42Z</dcterms:created>
  <dc:creator>P'adre</dc:creator>
  <dc:description/>
  <dc:language>en-US</dc:language>
  <cp:lastModifiedBy>komuro</cp:lastModifiedBy>
  <dcterms:modified xsi:type="dcterms:W3CDTF">2011-05-11T09:43:00Z</dcterms:modified>
  <cp:revision>100</cp:revision>
  <dc:subject/>
  <dc:title>スライド 1</dc:title>
</cp:coreProperties>
</file>